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3505-FFD3-4838-A18D-70FDFF48AF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3C25-64F4-4619-AEF1-122FA86E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1E38-F0DC-4C2B-9779-D0B07D2F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7C65-DB2A-44D6-8B8B-917EA5F53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A44-42DC-4E65-976B-15D0F2A91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ABA-04EC-4D9E-B490-885AA2D73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12E-BB22-4E88-AA2D-8F0FF756CB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765-9397-4FBE-9341-818D41B6C0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666-E432-4105-943E-E24C0A2FA4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E66-226E-4A95-A20F-60E90DADBD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9A5-6359-439E-9489-C312E30B0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C368-817B-451B-9441-1C8E6C7F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ABC-4345-4969-9166-D141135C9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B55-4D04-431E-92E9-B90F92403E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1A9-9D52-49C8-9031-0FE69FC4B9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CE0-214D-4930-AE26-9A7E3F5C01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C8D-AA16-4EDB-A543-AEB62307B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6DE5-A716-4DBC-A421-B47E1388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B639-6E19-48FF-A767-558A2EDF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B30B-1101-4008-B178-CFE97ACA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EFF4-BA31-406E-82A9-062E5A3C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3298-F02F-4634-AF00-3C51B134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9FB9-CF36-47D3-9445-81185F05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1F2A-42AF-4570-BCFE-05211E68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6DFD9A57-E17E-427B-824F-0F40C0BC7D4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60296D38-D5DB-4B71-A782-90534AFFC53E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5680" y="4572000"/>
            <a:ext cx="419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ost Process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Data in real-tim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57434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ost Process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y the data in T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38200" y="2328840"/>
            <a:ext cx="62690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ost Process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and Open the Data in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62040" y="2300400"/>
            <a:ext cx="42199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hreshold (Configuration)</a:t>
            </a:r>
            <a:br>
              <a:rPr sz="2800"/>
            </a:b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4864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Event (Configuration)</a:t>
            </a:r>
            <a:br>
              <a:rPr sz="2800"/>
            </a:b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66840" y="990720"/>
            <a:ext cx="4810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ction (Configuration)</a:t>
            </a:r>
            <a:br>
              <a:rPr sz="2800"/>
            </a:b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766800"/>
            <a:ext cx="5333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Logging Configuration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, Voice &amp; Data all in on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Data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MPEG-TS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 RTP Video &amp; Voice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6520" y="2246400"/>
            <a:ext cx="42688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TP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, MOS, R factor, Throughput, Payload type, Loss, Delay, Real-time Audio output 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, Holes (RF3357), MDI (DF &amp; LR), Throughput, CBR, Loss, Out of Sequen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6520" y="2246400"/>
            <a:ext cx="42688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PEG Transport Stream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Transport Stream &amp; Program Statis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I Delay Factor &amp; Lost Rate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 &amp; PMT Rate, Errors, etc. (PSI)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Rate, Errors, etc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urious Packet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 Byte Error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 Error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6520" y="2244600"/>
            <a:ext cx="4268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Goals…..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se th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pture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s\Events\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you comfortable using th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tool to find errors for you (the custo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error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w, Cool, Wiz bang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ptures the ‘eye’ and what customers rememb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PEG Transport Stream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PID statistics)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l values are per 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(Min, Max &amp; Av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 Packets (Min, Max &amp; Av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Dropo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of Real-time Video and Au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6520" y="2244600"/>
            <a:ext cx="4268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PEG PES Video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MOS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Pattern (length, matches, misma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Statistics (Throughput (Min, Max &amp; Avg.), Loss, etc) for I, B and P frame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ing of Video in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6520" y="2246400"/>
            <a:ext cx="42688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Video Control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s (STB’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der diagram (shows Joins, Leaves, RTSP commands (Play, Pause, Fast Forward, Rewind and 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TV ICC and IPTV Zap response times (Min, Max &amp; Av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, Max and Avg. for Failed Joins, Leav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6520" y="2246400"/>
            <a:ext cx="426888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ctive IGMP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der diagram (shows Joins, Leaves, RTSP commands (Play, Pause, Fast Forward, Rewind and S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following measurement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s, Joins, Failed Joins, Leaves, Group-Specific Queries, Unanswered Queries, Zap Time and Respon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41648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Network Vitals Statistics View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specific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 Packets, Broadcasts Throughput, Multicast Throughput, TT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6520" y="1266840"/>
            <a:ext cx="4268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ractical…..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a DNA Pro via MU Server and make the following measu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I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equenc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Zap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B Buffer siz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Practical…..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via a NIC and perform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up a Threshold, Alarm and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Frame, B Frame or P Frame Los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Degradation for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the Video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Video &amp;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MOS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Data in TPA then in Post Process mode replay the data in T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ata and open in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o what did you find?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I 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of Sequenc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Zap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B Buffer siz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up a Threshold, Alarm and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Frame , B Frame or P Frame Los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Degradation for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the Video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Video &amp;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MOS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Decodes, Splice Point CC valu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Wow, Cool, Wiz bang Factors</a:t>
            </a:r>
            <a:br>
              <a:rPr sz="2800"/>
            </a:b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done on all Data, Voice and Video at once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of Native Size Video, GOP Pattern and Frame Type Loss (QoE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PEG PES Measu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of Video and Audi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PEG-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 Diagram an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 Error or something that should not be th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30456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30456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C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30456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J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304560">
              <a:lnSpc>
                <a:spcPct val="90000"/>
              </a:lnSpc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0">
              <a:lnSpc>
                <a:spcPct val="9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figuration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Configuration selected from the Application by select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4000" cy="28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222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General Config &amp; MPEG-TS Config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4267080" cy="456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6520" y="1266840"/>
            <a:ext cx="4268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TPConfig &amp; RTP Gateway Config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7160" y="1266840"/>
            <a:ext cx="4267080" cy="4560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6520" y="1266840"/>
            <a:ext cx="4268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RO RTSM, MU and T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Interface Card (NI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Data in real-tim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the data in T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380880">
              <a:spcAft>
                <a:spcPts val="6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and Open the Data in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How to use the tool….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eal-time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PRO RTSM, MU and T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185920"/>
            <a:ext cx="61912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eal-time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terface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28840" y="2290680"/>
            <a:ext cx="62881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Real-time Measurements: (Configuration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terface Card (Fil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4314960" cy="16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576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14:34Z</dcterms:created>
  <dc:creator>Michael Stevens</dc:creator>
  <dc:description/>
  <dc:language>en-US</dc:language>
  <cp:lastModifiedBy>Michael Stevens</cp:lastModifiedBy>
  <dcterms:modified xsi:type="dcterms:W3CDTF">2007-05-31T00:17:37Z</dcterms:modified>
  <cp:revision>25</cp:revision>
  <dc:subject/>
  <dc:title>Slide 1</dc:title>
</cp:coreProperties>
</file>